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A78A-FAA0-4EC2-BE80-628E1EE5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359B-A20D-4014-A158-72A99490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E745-98DE-4878-9E86-540B66A5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E7E2-E330-45D2-BC3E-8AFAAEFF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9711-B11D-4CE3-AE09-DD861DA9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A1D0-0F2F-4EAE-95D9-226B01F4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8F11-683B-4949-ABA0-8B18F23F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113D-BB3C-46B8-8E87-9F9116D5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03A8-FC1E-42EF-96E9-763029BD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93FE-93FE-4891-B1D6-94C51FEA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B3B3-00EE-43DC-B042-3F1309AF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5F9C-9C13-4FE3-89E4-B8F772BDE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925840" cy="6743520"/>
            <a:chOff x="0" y="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8925840" cy="6743520"/>
              <a:chOff x="0" y="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15120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07916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17204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492920"/>
              <a:ext cx="7742520" cy="4800600"/>
              <a:chOff x="1149120" y="149292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492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21520"/>
                <a:ext cx="7742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1949760"/>
                <a:ext cx="7742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178720"/>
                <a:ext cx="7742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07320"/>
                <a:ext cx="7742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35560"/>
                <a:ext cx="7742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864520"/>
                <a:ext cx="7742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093120"/>
                <a:ext cx="7742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21360"/>
                <a:ext cx="7742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550320"/>
                <a:ext cx="7742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778920"/>
                <a:ext cx="7742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07160"/>
                <a:ext cx="7742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36120"/>
                <a:ext cx="7742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464720"/>
                <a:ext cx="7742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692960"/>
                <a:ext cx="7742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21920"/>
                <a:ext cx="7742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150520"/>
                <a:ext cx="7742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378760"/>
                <a:ext cx="7742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07720"/>
                <a:ext cx="7742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36320"/>
                <a:ext cx="7742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064560"/>
                <a:ext cx="7742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293520"/>
                <a:ext cx="7742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1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2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3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68E5-A716-4ADF-B63A-38264C369E3E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Arial"/>
              </a:rPr>
              <a:t>MLA </a:t>
            </a:r>
            <a:r>
              <a:rPr b="1" lang="en-US" sz="4400" spc="-1" strike="noStrike">
                <a:solidFill>
                  <a:srgbClr val="221304"/>
                </a:solidFill>
                <a:latin typeface="Arial Black"/>
              </a:rPr>
              <a:t>Documenta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3" name="Picture 3" descr="Documentation"/>
          <p:cNvPicPr/>
          <p:nvPr/>
        </p:nvPicPr>
        <p:blipFill>
          <a:blip r:embed="rId1"/>
          <a:stretch/>
        </p:blipFill>
        <p:spPr>
          <a:xfrm>
            <a:off x="5410080" y="3276720"/>
            <a:ext cx="3048120" cy="2943000"/>
          </a:xfrm>
          <a:prstGeom prst="rect">
            <a:avLst/>
          </a:prstGeom>
          <a:ln w="0">
            <a:noFill/>
          </a:ln>
        </p:spPr>
      </p:pic>
      <p:pic>
        <p:nvPicPr>
          <p:cNvPr id="114" name="Beethoven's Symphony No. 9 (Scherzo).wma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5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 Black"/>
              </a:rPr>
              <a:t>Documenting Sour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ok by a single auth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’s last name, first name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itle of 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 of publication: Name of Publisher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143000" y="4114800"/>
            <a:ext cx="7620120" cy="167796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ith, John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d Cars at Da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Cincinnati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per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push dir="r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3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2825"/>
                            </p:stCondLst>
                            <p:childTnLst>
                              <p:par>
                                <p:cTn id="3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150"/>
                            </p:stCondLst>
                            <p:childTnLst>
                              <p:par>
                                <p:cTn id="3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3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 Black"/>
              </a:rPr>
              <a:t>Documenting Sour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ok by two or more auth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’s last name, first name and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uthor’s fir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ast name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itle of 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Place of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ation: Name of Publisher, D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066680" y="4260960"/>
            <a:ext cx="7620120" cy="210456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ith, John, and Mary Johnson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nicorns 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urple Pala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Cincinnati: Harper, 200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push dir="r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4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4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275"/>
                            </p:stCondLst>
                            <p:childTnLst>
                              <p:par>
                                <p:cTn id="4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6575"/>
                            </p:stCondLst>
                            <p:childTnLst>
                              <p:par>
                                <p:cTn id="4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 Black"/>
              </a:rPr>
              <a:t>Documenting Sour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or more books by same auth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’s last name, first name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itle of 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 of publication: Name of Publishe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066680" y="3429000"/>
            <a:ext cx="7620120" cy="253116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ith, John, ed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d Cars in the Eve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ncinnati: Harper, 200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-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y Black Cars Hide at Da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Cincinnat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per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push dir="r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4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300"/>
                            </p:stCondLst>
                            <p:childTnLst>
                              <p:par>
                                <p:cTn id="4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4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 Black"/>
              </a:rPr>
              <a:t>Documenting Sour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ok by an edit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tor's last name, first name, and abbreviation for editor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itle of 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Place of publication: Name of publisher, d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066680" y="4260960"/>
            <a:ext cx="7620120" cy="210456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pate, Philip, ed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merican Indians on the Wi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e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Chicago: Doubleday, 1989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push dir="r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4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4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775"/>
                            </p:stCondLst>
                            <p:childTnLst>
                              <p:par>
                                <p:cTn id="49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 Black"/>
              </a:rPr>
              <a:t>Documenting Sour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article in a magazi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’s last name, first name. “Title of article.”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gazine 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complete date: pag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s of the article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066680" y="4260960"/>
            <a:ext cx="7620120" cy="167796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ehta, Poual. “Pigs Fly First Class.”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i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eek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4 Oct. 1999: 14-2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push dir="r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5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5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5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 Black"/>
              </a:rPr>
              <a:t>Documenting Sour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ctronic public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’s last name, first name (if known). “Title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ocument.”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formation about electroni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ubli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Date site was last updated. Dat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access. &lt;URL&gt;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066680" y="4260960"/>
            <a:ext cx="7620120" cy="167796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sen, Ron. “Computers Can Fly.”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lectronic C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3. 5 Aug. 2004. &lt;www.pigsfeet.org&gt;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push dir="r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5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5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5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 Black"/>
              </a:rPr>
              <a:t>Documenting Sour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ctronic publication with no auth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tle of the document.”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formation about electronic publi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Date of site update. Date of access. &lt;URL&gt;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066680" y="4260960"/>
            <a:ext cx="7620120" cy="167796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Elephants Sang.”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imalsOn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2003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Aug. 2004. &lt;www.Animalsonline.com&gt;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push dir="r"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5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3175"/>
                            </p:stCondLst>
                            <p:childTnLst>
                              <p:par>
                                <p:cTn id="5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6025"/>
                            </p:stCondLst>
                            <p:childTnLst>
                              <p:par>
                                <p:cTn id="5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 Black"/>
              </a:rPr>
              <a:t>Documenting Sour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article in a journ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’s last name, first name. “Title of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ticle.” Publication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066680" y="4114800"/>
            <a:ext cx="7620120" cy="167796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mpeter, Jane. “Widgeons Are Loose in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ll.”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ildren’s Dige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Philadelphia,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push dir="r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0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6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2825"/>
                            </p:stCondLst>
                            <p:childTnLst>
                              <p:par>
                                <p:cTn id="6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5050"/>
                            </p:stCondLst>
                            <p:childTnLst>
                              <p:par>
                                <p:cTn id="6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 Black"/>
              </a:rPr>
              <a:t>Documenting Sour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antholog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tor’s last name, first name, ed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itle of 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ation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143000" y="4114800"/>
            <a:ext cx="7620120" cy="167796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ith, John, ed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d Cars at Da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Cincinnati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per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push dir="r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0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6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2625"/>
                            </p:stCondLst>
                            <p:childTnLst>
                              <p:par>
                                <p:cTn id="6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4725"/>
                            </p:stCondLst>
                            <p:childTnLst>
                              <p:par>
                                <p:cTn id="6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 Black"/>
              </a:rPr>
              <a:t>Documenting Sour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work in an antholog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, title, and (if relevant) translator of the par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 book being cited, title of anthology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tor/translator/compiler, public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, page numbers of the cited pie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066680" y="4191120"/>
            <a:ext cx="7620120" cy="210456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ith, Isabel. “Frog’s Friend.” Trans. Andrew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shall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ildren’s Mytholog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Ed. Ti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tleberry. Pittsburg, 1979. 41-5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push dir="r"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nodeType="clickEffect" fill="hold">
                      <p:stCondLst>
                        <p:cond delay="0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6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6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6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 Black"/>
              </a:rPr>
              <a:t>Research Paper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p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typeface (Times New Rom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type size (12 po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 al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1/2-by-11-inch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inch margins (top, bottom, sid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uble-spac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rough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nt first word of para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2000"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7275"/>
                            </p:stCondLst>
                            <p:childTnLst>
                              <p:par>
                                <p:cTn id="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8550"/>
                            </p:stCondLst>
                            <p:childTnLst>
                              <p:par>
                                <p:cTn id="7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7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 Black"/>
              </a:rPr>
              <a:t>Documenting Sour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anonymous artic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Omit any initial, 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, or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group name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tle of article.”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ubli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complete dat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es of arti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66680" y="3925800"/>
            <a:ext cx="7620120" cy="167796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yond the Power Rangers: Forecasting New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oes.”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ighligh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5 Mar. 2001: 13-1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push dir="r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0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6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7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7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7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 Black"/>
              </a:rPr>
              <a:t>Documenting Sour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levision or radio progr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tle of episode.”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itle of progr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itle of series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of the network. Call letters, and city (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). Complete broadcast d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066680" y="3962520"/>
            <a:ext cx="7620120" cy="210456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gs In Space.”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ppets L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Jim Henson’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ppets. Universal. NBS, New York. 3 Ma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8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push dir="r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7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7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6225"/>
                            </p:stCondLst>
                            <p:childTnLst>
                              <p:par>
                                <p:cTn id="7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 Black"/>
              </a:rPr>
              <a:t>Documenting Sour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lec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aker’s last name, first name. “Title of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ation (or appropriate descriptors.”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nsoring organization (if applicable)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. D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066680" y="4260960"/>
            <a:ext cx="7620120" cy="210456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gel, Suttud. “Shock-Proofing Your Semester.”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A Student Senate. Rose Grounds, New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hi. 29 Dec. 197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push dir="r"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nodeType="clickEffect" fill="hold">
                      <p:stCondLst>
                        <p:cond delay="0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7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7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7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 Black"/>
              </a:rPr>
              <a:t>Works Cite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aldi, Joseph, ed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LA Handbook for Writers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earch Pap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New York, 200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WL Online Writing Lab. 28 Nov. 2005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owl.english.purdue.edu/handouts/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earch/r_mla.html#Works-Cit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th, Becca. “Citing Sources.”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lue Valley We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igh School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8 Nov. 2005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w.bv.229.k12.ks.us/bvw_lmc/citing.ht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 Resource Center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ong Colle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28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v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5. http://www.yorku.ca/stong/production/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push dir="r"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0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725"/>
                            </p:stCondLst>
                            <p:childTnLst>
                              <p:par>
                                <p:cTn id="7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2925"/>
                            </p:stCondLst>
                            <p:childTnLst>
                              <p:par>
                                <p:cTn id="8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5950"/>
                            </p:stCondLst>
                            <p:childTnLst>
                              <p:par>
                                <p:cTn id="8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9025"/>
                            </p:stCondLst>
                            <p:childTnLst>
                              <p:par>
                                <p:cTn id="8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 Black"/>
              </a:rPr>
              <a:t>Research Paper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ding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sh Left 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irst page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na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tor’s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rse numb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t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under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9000">
    <p:push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625"/>
                            </p:stCondLst>
                            <p:childTnLst>
                              <p:par>
                                <p:cTn id="10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375"/>
                            </p:stCondLst>
                            <p:childTnLst>
                              <p:par>
                                <p:cTn id="1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1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25"/>
                            </p:stCondLst>
                            <p:childTnLst>
                              <p:par>
                                <p:cTn id="1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6225"/>
                            </p:stCondLst>
                            <p:childTnLst>
                              <p:par>
                                <p:cTn id="1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6850"/>
                            </p:stCondLst>
                            <p:childTnLst>
                              <p:par>
                                <p:cTn id="1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 Black"/>
              </a:rPr>
              <a:t>Research Paper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Numbers—in the hea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-hand corner of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-half inch from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sh with right mar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last name and page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cutive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hyphen, period, “page” sepa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push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16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025"/>
                            </p:stCondLst>
                            <p:childTnLst>
                              <p:par>
                                <p:cTn id="1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18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4975"/>
                            </p:stCondLst>
                            <p:childTnLst>
                              <p:par>
                                <p:cTn id="1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6075"/>
                            </p:stCondLst>
                            <p:childTnLst>
                              <p:par>
                                <p:cTn id="2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7467480" y="6095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ti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3"/>
          <p:cNvGrpSpPr/>
          <p:nvPr/>
        </p:nvGrpSpPr>
        <p:grpSpPr>
          <a:xfrm>
            <a:off x="2514600" y="304920"/>
            <a:ext cx="4929120" cy="6172200"/>
            <a:chOff x="2514600" y="304920"/>
            <a:chExt cx="4929120" cy="6172200"/>
          </a:xfrm>
        </p:grpSpPr>
        <p:pic>
          <p:nvPicPr>
            <p:cNvPr id="123" name="Picture 4" descr="mlaformat"/>
            <p:cNvPicPr/>
            <p:nvPr/>
          </p:nvPicPr>
          <p:blipFill>
            <a:blip r:embed="rId1"/>
            <a:stretch/>
          </p:blipFill>
          <p:spPr>
            <a:xfrm>
              <a:off x="2514600" y="304920"/>
              <a:ext cx="4929120" cy="61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5"/>
            <p:cNvSpPr/>
            <p:nvPr/>
          </p:nvSpPr>
          <p:spPr>
            <a:xfrm>
              <a:off x="3886200" y="990720"/>
              <a:ext cx="28195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3000">
    <p:push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 Black"/>
              </a:rPr>
              <a:t>Parenthetical Cita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Bunyan is an American folklore hero whose blue ox was a menace (Stout 6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s cited l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ut, Avery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merican Folklo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New York: Collins, 196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push dir="r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675"/>
                            </p:stCondLst>
                            <p:childTnLst>
                              <p:par>
                                <p:cTn id="2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3775"/>
                            </p:stCondLst>
                            <p:childTnLst>
                              <p:par>
                                <p:cTn id="2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4625"/>
                            </p:stCondLst>
                            <p:childTnLst>
                              <p:par>
                                <p:cTn id="2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iting1"/>
          <p:cNvPicPr/>
          <p:nvPr/>
        </p:nvPicPr>
        <p:blipFill>
          <a:blip r:embed="rId1"/>
          <a:stretch/>
        </p:blipFill>
        <p:spPr>
          <a:xfrm>
            <a:off x="1295280" y="228600"/>
            <a:ext cx="6782040" cy="60260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6858000" y="6095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ti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push dir="r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 Black"/>
              </a:rPr>
              <a:t>Works Cite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st page(s) of the pa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er the 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inch from top of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-space through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in entry flush with left mar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ging indent if entry more than one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phabetical li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7000">
    <p:push dir="r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29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9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0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31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9250"/>
                            </p:stCondLst>
                            <p:childTnLst>
                              <p:par>
                                <p:cTn id="3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1650"/>
                            </p:stCondLst>
                            <p:childTnLst>
                              <p:par>
                                <p:cTn id="3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4350"/>
                            </p:stCondLst>
                            <p:childTnLst>
                              <p:par>
                                <p:cTn id="3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1143000" y="304920"/>
            <a:ext cx="7086600" cy="6019560"/>
            <a:chOff x="1143000" y="304920"/>
            <a:chExt cx="7086600" cy="6019560"/>
          </a:xfrm>
        </p:grpSpPr>
        <p:pic>
          <p:nvPicPr>
            <p:cNvPr id="132" name="Picture 3" descr="citing"/>
            <p:cNvPicPr/>
            <p:nvPr/>
          </p:nvPicPr>
          <p:blipFill>
            <a:blip r:embed="rId1"/>
            <a:stretch/>
          </p:blipFill>
          <p:spPr>
            <a:xfrm>
              <a:off x="1143000" y="304920"/>
              <a:ext cx="7086600" cy="60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4"/>
            <p:cNvSpPr/>
            <p:nvPr/>
          </p:nvSpPr>
          <p:spPr>
            <a:xfrm>
              <a:off x="2438280" y="5562720"/>
              <a:ext cx="335304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5"/>
          <p:cNvSpPr/>
          <p:nvPr/>
        </p:nvSpPr>
        <p:spPr>
          <a:xfrm>
            <a:off x="6858000" y="5943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ti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push dir="r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02:27:11Z</dcterms:created>
  <dc:creator>Love E. Beatty</dc:creator>
  <dc:description/>
  <dc:language>en-US</dc:language>
  <cp:lastModifiedBy>Suzanne Conti</cp:lastModifiedBy>
  <dcterms:modified xsi:type="dcterms:W3CDTF">2011-09-09T16:49:31Z</dcterms:modified>
  <cp:revision>6</cp:revision>
  <dc:subject/>
  <dc:title>MLA Documentation, 2005</dc:title>
</cp:coreProperties>
</file>